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CF78-33A2-4D2D-8769-219F46DFE32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D31-1E8C-4D1C-8C8F-84A57DE5C98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109B-00A0-4967-B139-E8D54CE0F46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F2D6-D2C4-45DF-BAE7-ACC4E7BB10B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1A59-F5BA-4369-B0EE-969DD13A30B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B8B4-FAF2-447E-ADEF-3957B4DC894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34AC-1A5B-4D89-AF5C-0B825C2F341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AF35-0BFB-4092-B03E-829E0F4D528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6F69-3C9B-411C-AA86-4762C0C9654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2B45-49AE-4106-A048-1646118F91B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CDA6-8252-4283-9AA8-44E42E51EE6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1A64-4382-4B43-8BC3-4B9F5524158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BB6B-76D0-4113-962C-908D109BE8A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D565-C875-4E47-89E9-249747BB474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DD41-BFF3-4DE1-B9A0-63B2F0F3C1D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1AC6-8F84-41FA-8BB7-E0F0B32B8D7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B9BE-DA71-47C1-86B0-7998D605E2F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EFD9-3CF6-4054-AF98-BE1249E8A59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5B9B-BFA4-4A5F-B255-064A362C044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4F49-9F14-418B-8E00-39202F39F15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4E51-F4CA-47BE-A318-71236F51181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E20-4C59-41BF-8CED-191CF51A351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182E-BE3A-4EE9-9696-68225755F4A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D7A2-AB07-4639-AD3E-45C3DDB843E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585B-349F-4F93-89AC-BF37EC8C260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E69D-7B50-459F-9021-7A8D6EBDB47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2591-B76A-4F3B-9E9B-9C608A04D72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270B-94A8-4D81-B109-9621EAE0088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B257-FBD0-47D8-9B7C-DD7F18F43B0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8BC0-2C1D-4D8B-8D4D-334AA4DAD7D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3474-AF4B-46F4-AFAD-1930DC4CA7B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BA07-2F68-46C4-AB8C-593F3256E22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9C3C-9DAB-4C84-AE51-577588995E2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097F-14F8-4B63-B6A8-6240841812B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F6A0-10F3-4999-9ECD-7A31F886D14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6B2C-1C61-402B-BAA8-AC664771D29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5326-7C9B-4B92-9E08-58F8D02A382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4BEA-B62A-4514-8330-2AE2D48F8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805B-256F-431A-A0BC-EC3717D16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7801-DF7A-4513-BA9E-8B9D633EA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2B99-A0C3-47A7-8A13-E9A944775E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CC39-4653-4708-B919-02A39B38D3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BCAF-C1D0-4BA1-BDDE-FD1250E69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C8CD-36EB-4367-B6C2-5F0F4E269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4E7C-719F-4489-9FBD-5EBD587FB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7331-50DB-41F5-91E7-55B957B8B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D1B3-46A6-4FFA-8D3F-528B1791C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97CB-5496-4158-BD62-6F2FD6E5E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E7F7-F53D-4116-9B1B-0B192C300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029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826524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19D9-46C4-4CAE-8D0B-09C096953C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172040" y="5870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33520" y="3451320"/>
            <a:ext cx="274464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lliam P. Cunningham</a:t>
            </a:r>
            <a:br>
              <a:rPr sz="20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University of Minnesota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y Ann Cunningham</a:t>
            </a:r>
            <a:br>
              <a:rPr sz="24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Vassar College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6521400"/>
            <a:ext cx="9144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54421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See PowerPoint Image Slides for all figures and tables pre-inserted into PowerPoint without notes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1295280"/>
            <a:ext cx="44956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21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cture Outlin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19720" y="905040"/>
            <a:ext cx="4486320" cy="541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447920" cy="719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hinese Woman Extracts Valuabl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tals From E-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889080" cy="528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te Disposal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nitary Landf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e compacted and covered every day with a layer of d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t takes up as much as 20% of landfill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1994, all operating landfills in the U.S. have been required to control hazardous substances with lining and drainag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nitary Landfil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5" name="Picture 5" descr="_x0012_cun51381_21_07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870120" y="1139760"/>
            <a:ext cx="740376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ndfil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ly, landfills have been a convenient, inexpensive waste-disposal o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land prices and shipping fees, and demanding construction and maintenance requirements, are increasing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able landfill sites are becom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- 1,500 landfills have clo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ies are rejecting new landf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trend in landfills is methane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te Disposal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ineration (also called Energy Recov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 Reco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heat derived from incinerated refuse is a useful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ing garbage is used to create steam used for heating buildings or generating electri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ly, there are well over 1,000 such plants that reduce garbage while generating needed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inerator Ty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use-Derived Fu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refuse is sorted to remove recyclable and unburnable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energy content than raw tr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ss Bu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everything smaller than major furniture and appliances loaded into furn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air pollu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disposal volume by 80-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 ash usually contains toxic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ss-Burn Incinera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8" descr="_x0012_cun51381_21_09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201600" y="1149480"/>
            <a:ext cx="8739360" cy="4559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inerator Cost and Safe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construction costs are usually between $100 and $300 million for a typical municipal fac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ping fees (cost to dump 1 ton) are often much higher than tipping fees at landf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has found alarmingly high levels of dioxins, furan, lead and cadmium in a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way to control this is to remove heavy metals (batteries) and plastics before bu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rinking the Waste Strea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ing is the reprocessing of discarded materials into new, useful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, about two-thirds of all aluminum cans are recyc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tires are turned into road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papers become in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ing copper is so lucrative that thieves are stealing copper pipes and wires causing gas leaks and explo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ycl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s money, raw materials, and land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$35/ton as opposed to $80/ton to  landf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s individual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pressure on disposa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recycles about half of all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demand for raw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energy consumption and ai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lid, Toxic, and Hazardous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8" descr="_x0011_cun51381_co21.jpg                                              0030F4F0_x000c_Macintosh HD                   BFE0EB86:"/>
          <p:cNvPicPr/>
          <p:nvPr/>
        </p:nvPicPr>
        <p:blipFill>
          <a:blip r:embed="rId1"/>
          <a:stretch/>
        </p:blipFill>
        <p:spPr>
          <a:xfrm>
            <a:off x="453960" y="1371600"/>
            <a:ext cx="8236080" cy="4981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ycl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policies tend to favor use of new raw materials because energy, raw materials, and water are often sold below real cost to create jobs and stimulate the econom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, local and national statutes requiring government agencies to purchase a minimum amount of re-cycled material have 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help by buying recycled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S. Recycling Ra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5" descr="_x0012_cun51381_21_11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874800" y="987480"/>
            <a:ext cx="7394400" cy="5413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posal of Municipal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912960"/>
            <a:ext cx="8305920" cy="5138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ercial Scale Recycling and Compos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t yard waste at the municip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rd waste makes up 12% of waste st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company uses yard waste to make metha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waste can be recyc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500,000 tons of debris from World Trade Center was recyc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mal conversion proc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oks manure, paper-processing waste and plastics into oil, gasoline and natural gas.  Began in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manufacturing is Necessary for E-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ufacturing is the disassembly and recycling of obsolete appliances and electron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fice machines are used 3 years; most TVs used 5 years; 300 million computers await dispo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% of heavy metal contamination comes from e-waste, and batteries make up another 10% to 2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Europe, manufacturers have “cradle to grave” responsibility for their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use is More Efficient Than Recycl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 parts, brass fittings, woodwork, bricks, are routinely reused and can bring a high pr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ss and plastic bottles are washed and refi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veloping countries, poor people make a living by scavenging, sorting and reprocessing scraps from du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rinking the Waste Strea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ducing Less W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 packaging of consumer products is one of our greatest sources of unnecessary was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, plastic, glass, and metal packaging material make up 50% of domestic tras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unnecessary pack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use of photodegradable and biodegradable pla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laws in European Union.  By 2020, 50% of municipal solid waste and 70% of construction waste will be reused or recyc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zardous and Toxic Was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estimates U.S. industries generate 265 million metric tons of officially classified hazardous wastes annu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least 40 million metric tons of toxic and hazardous wastes are released into the environment each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_x0012_cun51381_21_17.jpg                                             0030F4F0_x000c_Macintosh HD                   BFE0EB86:"/>
          <p:cNvPicPr/>
          <p:nvPr/>
        </p:nvPicPr>
        <p:blipFill>
          <a:blip r:embed="rId1"/>
          <a:stretch/>
        </p:blipFill>
        <p:spPr>
          <a:xfrm>
            <a:off x="870120" y="641520"/>
            <a:ext cx="7403760" cy="5576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S. Hazardous Waste Produc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1347840"/>
            <a:ext cx="6248160" cy="4160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 W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 Disposal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ing the Waste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ardous and Toxic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C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zardous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ly, hazardous waste is any discarded liquid or solid that contains substances known to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al to humans or laboratory animals in low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xic, carcinogenic, mutagenic, or teratogenic to humans or other life-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itable with a flash point less than 6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o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 or highly re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zardous Waste Dispos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deral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ource Conservation and Recovery Act (RCRA) - 19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program requiring rigorous testing and management of toxic and hazardous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dle to grave” ac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eral Legis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rehensive Environmental Response, Compensation and Liability Act (CERC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ied by Superfund Amendments and Reauthorization Act (SA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ed at rapid containment, cleanup, or remediation of abandoned toxic waste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a community “right to kn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xic Release Invent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Requires 20,000 manufacturing facilities to report annually on releases of more than 300 toxic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cking Cradle to Gra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Picture 5" descr="_x0012_cun51381_21_19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490680" y="1011240"/>
            <a:ext cx="8162640" cy="4835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RC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does not have to prove anyone violated a law or what role they played in contaminating a superfund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ability under CERCLA is “strict, joint, and several”, meaning anyone associated with a site can be held responsible for the entire clean-up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CLA amended in 1995 to allow containment if treatment is unavailable or too cos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perfund Si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estimates 36,000 seriously contaminated sites in the U.S.  General Accounting Office says 400,000 si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2007, 1,680 sites had been placed on the National Priority List for cleanup with Superfund financ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fund is a revolving pool design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immediate response to emergency situations posing imminent haz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abandoned or inactive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perfund Si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osts for hazardous waste cleanup in the U.S. are estimated between $370 billion and $1.7 trillion of taxpayer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sites are old industrial facilities and chemical manufacturing plants around the Great Lakes and Gulf Coast.  Mining areas and old dumps are also prime sources of toxic was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of Superfund sites reveal minorities tend to be over-represented in these neighborho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p of Hazardous Waste Si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" name="Picture 8" descr="_x0012_cun51381_21_21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874800" y="1125360"/>
            <a:ext cx="7394400" cy="5123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rownfield Liabilities and Opportunit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ownfiel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contaminated properties that have been abandoned or are not being used up to potential because of pollution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one-third of all commercial industrial sites in urban core of many big cities fall into this categ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cases, property owners complain that unreasonably high purity levels are demanded in remed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ing liability insurance against future cleanup costs is beneficial in reusing brownfiel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zardous Waste Management Op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duce Less W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creating wastes in the first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e and Reuse - what is waste to one industry is raw product for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vert to Less Hazardous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Treatment  (Iso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n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Processing (Transformation to non-toxic substan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remediation (Microorganisms detoxif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lid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EPA, U.S. produces 11 billion tons of solid waste annu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half is agricultural w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one-third is mining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Waste - 400 million metric 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ardous/Toxic - 60 million metric 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icipal Waste - 200 million metric 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-thirds of a ton p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ste Stream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we throw awa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zardous Waste Management Op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ore Perman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trievable Stor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 containers in salt mines or cav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inspected and periodically retrieved if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ure Landf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n, complex landfills with multiple liners and other impervious layers, covered by a cap.  Leachate is processed and monitoring sees that no toxins esca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xic Waste Secure Landfil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2" name="Picture 5" descr="_x0012_cun51381_21_23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870120" y="917640"/>
            <a:ext cx="7403760" cy="5711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xic Waste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of hazardous wastes to disposal sites risks acc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particular concern in densely packed urban corrid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worry is who will bear financial responsibility for abandoned waste si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y need new institutions for perpetual care of toxic wastes and nuclear was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S. Domestic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Picture 9" descr="_x0012_cun51381_21_03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2424240" y="1066680"/>
            <a:ext cx="42955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te Disposal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pen Dumps Release Hazardous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, unregulated dumps are still the predominant method of waste disposal in developing cou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developed countries forbid open dum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d 200 million liters of motor oil are poured into the sewers or soak into the ground each yea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times volume of Exxon Valdez oil sp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te Disposal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ean dumping is nearly uncontro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year 20 million tons of plastic debris are dumped at sea where they are eaten by wildlife or wash up on beaches, even in remote reg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at Pacific Garbage Pat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floating garbage is now collecting in the center of the North Pacific Gyre , a circular collection of ocean curr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North Pacific alone, 50,000 northern fur seals are entangled in refuse and in the       1,000 km of fishing nets lost each year.  They drown or starve to d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stics In the Stomach of Albatross Chi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092240"/>
            <a:ext cx="6324480" cy="5102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te Disposal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 Often Export Wastes To Other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ized nations have agreed to stop shipping hazardous and toxic waste to less-developed countries, but it still contin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80% of electronic waste (e-waste) is shipped abroad, mostly to Asia and Africa where it is broken apart to salvage met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maining material is thrown into open dumps causing soil and water contam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 of this e-waste are outdated televisions, computers, game consoles and cell ph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22:44:40Z</dcterms:created>
  <dc:creator>CCSN</dc:creator>
  <dc:description/>
  <dc:language>en-US</dc:language>
  <cp:lastModifiedBy>yeswini.d</cp:lastModifiedBy>
  <dcterms:modified xsi:type="dcterms:W3CDTF">2009-08-24T05:45:17Z</dcterms:modified>
  <cp:revision>118</cp:revision>
  <dc:subject/>
  <dc:title>Understanding Our Environment</dc:title>
</cp:coreProperties>
</file>